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27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29B-1E64-4D26-B2C1-9232CB48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3F3-1B8C-41E2-84F0-274A999D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E56-51D3-412E-A143-098DE218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20B-8266-489C-87CE-153D14A0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D60-F111-4664-B2EE-F298C16B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0D7-4F4F-43DB-9F84-C22CEA4B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CCF-442D-4580-9CD7-C02E8143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AE6-5C69-4184-9CD9-3E0A5BDF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969-BFB5-490A-87EA-A02C7786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DB8-9878-4AAA-BBFB-B3EDA8C5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6C6-954C-4E75-BE91-7CD5E0C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870-4366-48F1-A458-D65E4B7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5F7-97F8-4A71-BE68-AAA6AD4415FA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th has chang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the organisms living on it changed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ossil record says yes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38680" y="609120"/>
            <a:ext cx="2819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arwin’s Theor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282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075280"/>
            <a:ext cx="9144000" cy="1782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apt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tnes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aptive advantag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90920" y="4724280"/>
            <a:ext cx="2666880" cy="2000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43600" y="2666880"/>
            <a:ext cx="2895480" cy="1514520"/>
            <a:chOff x="5943600" y="2666880"/>
            <a:chExt cx="2895480" cy="15145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rcRect l="0" t="0" r="0" b="11374"/>
            <a:stretch/>
          </p:blipFill>
          <p:spPr>
            <a:xfrm>
              <a:off x="5943600" y="2666880"/>
              <a:ext cx="2895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5943600" y="2666880"/>
              <a:ext cx="2895480" cy="15145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.  Fossil Record - The fossils show chang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iodiversity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umber of speci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iogeography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what and where an animal is depends on its hi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ssils for armadillos are found in the new world, and armadillos are found in the new world, therefore animals are found above their fossi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uccession of Form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escent with modific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orse fossil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209700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486400" y="4309920"/>
            <a:ext cx="35352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5444" t="3001" r="3940" b="4000"/>
          <a:stretch/>
        </p:blipFill>
        <p:spPr>
          <a:xfrm>
            <a:off x="12193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ossil Recor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 fossils show chang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ioge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at and where an animal is depends on its his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umber of spec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1520" y="4257720"/>
            <a:ext cx="2097000" cy="1695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. Anatomical Structu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mparison by morpholog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mmon Ances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omologous Stru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estigial Structu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nalogous Structu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6791"/>
          <a:stretch/>
        </p:blipFill>
        <p:spPr>
          <a:xfrm>
            <a:off x="533520" y="4613400"/>
            <a:ext cx="3809880" cy="2244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4769"/>
          <a:stretch/>
        </p:blipFill>
        <p:spPr>
          <a:xfrm>
            <a:off x="533520" y="1905120"/>
            <a:ext cx="3609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172200" cy="4972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38680" y="1066320"/>
            <a:ext cx="3200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mmon Ancesto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omologous Structu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milar structure due to shared ancestry, but have different fun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Vestigial Struc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 current func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ad function in ancest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uman appendix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uman coccyx (tailbon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ale leg bon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7067" t="47021" r="26575" b="-268"/>
          <a:stretch/>
        </p:blipFill>
        <p:spPr>
          <a:xfrm>
            <a:off x="4495680" y="1828800"/>
            <a:ext cx="44118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0400" y="304920"/>
            <a:ext cx="34966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Evidence of </a:t>
            </a: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Anatom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133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logous Structur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ative Anatom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tigial Orga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4724280"/>
            <a:ext cx="2666880" cy="1187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305240" cy="20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" y="5346720"/>
            <a:ext cx="1266840" cy="1216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90920" y="57913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t’s wing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6553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ipp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334120" y="4724280"/>
            <a:ext cx="3504960" cy="1501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486400" y="19810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715000" y="685800"/>
            <a:ext cx="24336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4309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lvl="1" marL="505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ifferent Ancesto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505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nalogous Structu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505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fferent structures have similar function but evolved separate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3. Embryolog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bryo development reflects evolution his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shows inheritance of an original, shared body pla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18564" r="0" b="9946"/>
          <a:stretch/>
        </p:blipFill>
        <p:spPr>
          <a:xfrm>
            <a:off x="0" y="2465280"/>
            <a:ext cx="7010280" cy="439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934320" y="2133720"/>
            <a:ext cx="220968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 sli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bra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spo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 hol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History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ristotle’s ladder of natu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utton – gradualism;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uvier - catatrophis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amarc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- acquired trait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. giraff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arwi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scent with modification due to natural sele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3. Embryolog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bryo development reflects evolution his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8564" r="0" b="9946"/>
          <a:stretch/>
        </p:blipFill>
        <p:spPr>
          <a:xfrm>
            <a:off x="0" y="2465280"/>
            <a:ext cx="7010280" cy="4392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248520" y="30481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ntology recapitulates Phylogen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Name that Animal!!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0" b="40002"/>
          <a:stretch/>
        </p:blipFill>
        <p:spPr>
          <a:xfrm>
            <a:off x="990720" y="1398600"/>
            <a:ext cx="6476760" cy="534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800" y="3429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T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3505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3505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6338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505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C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idence for Evolution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biochemical</a:t>
            </a:r>
            <a:br>
              <a:rPr sz="3600"/>
            </a:br>
            <a:r>
              <a:rPr b="1" lang="en-US" sz="1600" spc="-1" strike="noStrike">
                <a:solidFill>
                  <a:srgbClr val="3333cc"/>
                </a:solidFill>
                <a:latin typeface="Book Antiqua"/>
              </a:rPr>
              <a:t>shows inheritance of similar chemicals by different species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Book Antiqua"/>
              </a:rPr>
              <a:t>Example:  Hemoglobin, amino acid sequenc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7062"/>
          <a:stretch/>
        </p:blipFill>
        <p:spPr>
          <a:xfrm>
            <a:off x="152280" y="1981080"/>
            <a:ext cx="8763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20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ddddd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Evidence of EVOLUTION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Fossil Recor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Anatomical Structures (anatomy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Embryolog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shows inheritance of an original, shared body pla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Biochemistr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shows inheritance of similar chemicals by different speci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Example:  Hemoglobin, amino acid sequenc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Microevolution with genetic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new alleles from mutations and recombination create VARI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 Antiqua"/>
              </a:rPr>
              <a:t>if those variations make an organism more fit =NATURAL SELEC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048120" cy="4191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86400" y="41911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327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icroevolu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ange within a species with a short generation ti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servable in a human’s lifeti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acterial resistanc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eppered moth of Englan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rtificial selec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3083040" cy="4191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838080"/>
            <a:ext cx="6019920" cy="6019920"/>
            <a:chOff x="0" y="838080"/>
            <a:chExt cx="6019920" cy="60199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0" r="0" b="3442"/>
            <a:stretch/>
          </p:blipFill>
          <p:spPr>
            <a:xfrm>
              <a:off x="0" y="838080"/>
              <a:ext cx="601992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0" y="838080"/>
              <a:ext cx="6019920" cy="60199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10080" y="83772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ange over ti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rocess by which modern organisms have descended from ancient organis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anges in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oo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organis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not happen in one gener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99284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arwi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0" y="4572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arles Darwi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ory of natural selec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udying finches in the Galapagos Isla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lfred Walla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milar theory at a similar tim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t often recogniz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440" y="1230480"/>
            <a:ext cx="862956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15400" cy="408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29172" t="7265" r="0" b="0"/>
          <a:stretch/>
        </p:blipFill>
        <p:spPr>
          <a:xfrm>
            <a:off x="2286000" y="335268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99072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arwin’s Theor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Variati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mong offspr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Overpopulati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-more organisms produced than can surviv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&amp; Survival of the Fittest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tnes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aptive advantag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survivors live to reproduce passing on trai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4) Over hundreds of generations, </a:t>
            </a:r>
            <a:r>
              <a:rPr b="0" lang="en-US" sz="3200" spc="-1" strike="noStrike">
                <a:solidFill>
                  <a:srgbClr val="000000"/>
                </a:solidFill>
                <a:latin typeface="Matisse ITC"/>
              </a:rPr>
              <a:t>Descent with modific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4120" y="609480"/>
            <a:ext cx="3733200" cy="6095880"/>
            <a:chOff x="5334120" y="609480"/>
            <a:chExt cx="3733200" cy="6095880"/>
          </a:xfrm>
        </p:grpSpPr>
        <p:sp>
          <p:nvSpPr>
            <p:cNvPr id="63" name=""/>
            <p:cNvSpPr/>
            <p:nvPr/>
          </p:nvSpPr>
          <p:spPr>
            <a:xfrm>
              <a:off x="6267240" y="60948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07520" y="60948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60880" y="60948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51600" y="60948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0600" y="149076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8480" y="1563840"/>
              <a:ext cx="559800" cy="58752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04960" y="207828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7440" y="193140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60880" y="207828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16360" y="163764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11760" y="163764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58400" y="2004480"/>
              <a:ext cx="559800" cy="58752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7520" y="1563840"/>
              <a:ext cx="559800" cy="58752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09640" y="149076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14240" y="149076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76520" y="2004480"/>
              <a:ext cx="559800" cy="58752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4120" y="281268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31640" y="295956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8480" y="34740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20600" y="3326760"/>
              <a:ext cx="559800" cy="58752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4040" y="347400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9520" y="30330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25280" y="3033000"/>
              <a:ext cx="559800" cy="58716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1920" y="340020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0680" y="2959560"/>
              <a:ext cx="559800" cy="587160"/>
            </a:xfrm>
            <a:prstGeom prst="star5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23160" y="2886120"/>
              <a:ext cx="559800" cy="58752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27400" y="2886120"/>
              <a:ext cx="559800" cy="587520"/>
            </a:xfrm>
            <a:prstGeom prst="star5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89680" y="3400200"/>
              <a:ext cx="559800" cy="58716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96400" y="281268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74040" y="3547080"/>
              <a:ext cx="497520" cy="58752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27400" y="295956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25280" y="3033000"/>
              <a:ext cx="49788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58400" y="3033000"/>
              <a:ext cx="49788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9680" y="3547080"/>
              <a:ext cx="497520" cy="58752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20600" y="340020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93920" y="295956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34200" y="3474000"/>
              <a:ext cx="497520" cy="587160"/>
            </a:xfrm>
            <a:prstGeom prst="flowChartSummingJunction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8480" y="45756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27400" y="45756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78280" y="5236560"/>
              <a:ext cx="373320" cy="660960"/>
            </a:xfrm>
            <a:prstGeom prst="downArrow">
              <a:avLst>
                <a:gd name="adj1" fmla="val 50000"/>
                <a:gd name="adj2" fmla="val 4426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58320" y="6118200"/>
              <a:ext cx="559800" cy="587160"/>
            </a:xfrm>
            <a:prstGeom prst="star5">
              <a:avLst/>
            </a:prstGeom>
            <a:solidFill>
              <a:srgbClr val="0000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43040" y="589788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40560" y="6118200"/>
              <a:ext cx="559800" cy="587160"/>
            </a:xfrm>
            <a:prstGeom prst="star5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2a2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87560" y="6118200"/>
              <a:ext cx="559800" cy="587160"/>
            </a:xfrm>
            <a:prstGeom prst="star5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51600" y="5677200"/>
              <a:ext cx="559800" cy="587160"/>
            </a:xfrm>
            <a:prstGeom prst="star5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5080" y="5897880"/>
              <a:ext cx="559800" cy="587160"/>
            </a:xfrm>
            <a:prstGeom prst="star5">
              <a:avLst/>
            </a:prstGeom>
            <a:solidFill>
              <a:srgbClr val="0000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idence for Darwin’s Theory -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cent with modific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019" t="3176" r="2085" b="6678"/>
          <a:stretch/>
        </p:blipFill>
        <p:spPr>
          <a:xfrm>
            <a:off x="2133720" y="762120"/>
            <a:ext cx="7010280" cy="6095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2438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dification by natural selec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cent ancest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mote ancest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18:15:47Z</dcterms:created>
  <dc:creator>Beth Waid Prince</dc:creator>
  <dc:description/>
  <dc:language>en-US</dc:language>
  <cp:lastModifiedBy>Tricia</cp:lastModifiedBy>
  <cp:lastPrinted>2001-01-20T19:53:34Z</cp:lastPrinted>
  <dcterms:modified xsi:type="dcterms:W3CDTF">2007-03-27T13:27:33Z</dcterms:modified>
  <cp:revision>72</cp:revision>
  <dc:subject/>
  <dc:title>Evolution</dc:title>
</cp:coreProperties>
</file>